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0DC-32BF-49F8-990A-B1C1CF21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149A-9C80-4724-A199-D1913B7F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D6CD-457D-476A-A0CF-14D3E87D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88D-3D1F-4E64-B634-1EA53FBB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061-FCDF-423E-8C83-86488E57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86D-335F-4443-ABC2-F5CC0F49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768A-4A5A-43C4-A15C-49D94183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446-27B5-45AC-A22A-5A68EB69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49A-905B-4ACA-86EB-76015809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D90-46DA-4682-AA55-0AEB5D76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030-0F7B-438B-8059-2568B50E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D7D4-9EEF-468F-ADA5-4A5CC48E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5E7C-5F60-4DE8-A32B-4130BBCE7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0"/>
            <a:ext cx="9144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irements for script and powerpoi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eeting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me of your station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ere the station is located (must be a city in a German speaking country)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name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y and date (this can be any date of your choosing). 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p story  (Unsere Hauptbericht  [our top story] ist… 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animal is missing or lost. (missing – Ein/eine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nimal fehl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) (lost – Ein/eine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nima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t verloren.)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 have the owner here”.  (Besitzer/Besitzerin - owner)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oth say hello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for owner’s name and answer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where s/he lives.  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 Type animal they are looking for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 the name of the animal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description using colors and size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 the temperament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Age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what the pet likes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contact number and/or email address if the animal is found. (Wenn gefunden, rufen Sie bei….. an.)  (Wenn gefunden, schicken Sie eine Email an… )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ank you (said to the interviewee)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oth must say Goodbye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6705720" y="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tatively worth 128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1"/>
          <a:stretch/>
        </p:blipFill>
        <p:spPr>
          <a:xfrm>
            <a:off x="-189000" y="5589720"/>
            <a:ext cx="960120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2" descr=""/>
          <p:cNvPicPr/>
          <p:nvPr/>
        </p:nvPicPr>
        <p:blipFill>
          <a:blip r:embed="rId1"/>
          <a:stretch/>
        </p:blipFill>
        <p:spPr>
          <a:xfrm>
            <a:off x="-12600" y="-6480"/>
            <a:ext cx="8022960" cy="39816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0" y="4038480"/>
            <a:ext cx="899172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nunciation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pronunciation sound very close to a native speakers for this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pronunciation does not interfere with presentation, but some mispronunciation (pronounced like Engl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many words were mispronounced, however, a sympathetic listener could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understanding was difficult.  Understanding could only be achieved by reading the written scr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ura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mostly correct, mistakes are minor (word order or spel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mostly correct, mistakes are mostly minor, but errors exist in the required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mistakes make meaning unclear in some places, or mistakes with requirements and verb conju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any mistakes in the requirements show inadequate mastery of the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o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added extra vocabulary and possessive adjectives to enhance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- added extra vocabulary to enhance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fulfilled al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did not complete the project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20:55:28Z</dcterms:created>
  <dc:creator>ahart</dc:creator>
  <dc:description/>
  <dc:language>en-US</dc:language>
  <cp:lastModifiedBy>ahart</cp:lastModifiedBy>
  <dcterms:modified xsi:type="dcterms:W3CDTF">2012-11-08T20:44:10Z</dcterms:modified>
  <cp:revision>15</cp:revision>
  <dc:subject/>
  <dc:title>Slide 1</dc:title>
</cp:coreProperties>
</file>